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8DD4-B8D1-4D2F-B395-1560BB873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66FB-A832-454D-84BC-CB92AEB3E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1A3-4EE7-4249-B78B-0CE913A1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B799-F5E7-44DB-8224-78ED1333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EA7E-C1C8-48A6-8B34-350506F3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C0E-9904-4CC1-9F3C-8A2267DF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F690-7C3E-46D3-B742-63C9E6F0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57C-A2C8-48DE-95D9-B338AF55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301-E2D4-495C-909F-FEE33BE8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D077-21DF-4046-8F8D-A3A5E87D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3D5-72DE-41D0-9208-874BDDA9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EF7-8E4B-45DD-9125-B7B21A96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8AE-93D4-48FE-826D-575A9BC6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88A-2BE8-414E-8A05-0C3A6071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6A3A-C8BB-42ED-9FC0-0D3384BB8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ule 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cohol (ethyl alcoho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nd in beer, wine, and liqu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cond most used psychoactive drug (caffeine firs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ows thinking, and impairs physical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Blair-Broeker_fig"/>
          <p:cNvPicPr/>
          <p:nvPr/>
        </p:nvPicPr>
        <p:blipFill>
          <a:blip r:embed="rId1"/>
          <a:stretch/>
        </p:blipFill>
        <p:spPr>
          <a:xfrm>
            <a:off x="2438280" y="4191120"/>
            <a:ext cx="60962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od Alcohol Content (B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easure of how much alcohol is in a person’s bloodst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 of .8 considered legal intoxication in most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Blair-Broeker_26UN02"/>
          <p:cNvPicPr/>
          <p:nvPr/>
        </p:nvPicPr>
        <p:blipFill>
          <a:blip r:embed="rId1"/>
          <a:stretch/>
        </p:blipFill>
        <p:spPr>
          <a:xfrm>
            <a:off x="3733920" y="3505320"/>
            <a:ext cx="39621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phoric Affects of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cohol impairs the parts of the brain responsible for controlling inhibitions and making jud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cohol, Memory, and 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udies have shown that alcohol impairs memory by suppressing the processing of events into long term mem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cohol impairs REM sleep, further disrupting memory stor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coh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Blair-Broeker_tabl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timula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6: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imu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ugs that excite neural activity and speed up body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lude: caffeine, nicotine, amphetamines, and coc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ffe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5791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mulant found in coffee, chocolate, tea, and some soft dr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user with a sense of increased energy, mental alertness, and forced wakefu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s neurological receptor sites that, if activated, sedate the central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Blair-Broeker_26UN03"/>
          <p:cNvPicPr/>
          <p:nvPr/>
        </p:nvPicPr>
        <p:blipFill>
          <a:blip r:embed="rId1"/>
          <a:stretch/>
        </p:blipFill>
        <p:spPr>
          <a:xfrm>
            <a:off x="5791320" y="1143000"/>
            <a:ext cx="3120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co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imulant found in tobac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s similar to those of caffe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y addictive and does not stay in the body very 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c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imulant derived from leaves of the coca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ack – cocaine crys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ocks the reuptake of certain neurotransmi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ency is quick and severe; places extreme strain on cardiovascular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ying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active dru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ance capable of influencing perception, mood, cognition, or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mul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ed up activity in the C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 down activity in the C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eve p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edelic dru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rupt normal thought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phetam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ugs that stimulate neural activity, speeding up body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lude increased energy and mood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ludes: speed, uppers, and  methamphetam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adrena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cause irreversible changes in m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Hallucinoge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6: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ucin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ychedelic drugs that distort perceptions and evoke sensory images in the absence of sensory in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lude: LSD and ecsta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times called “psychedelics” meaning mind-manif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ysergic Acid Diethylamide (LS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werful hallucinogenic d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so known as “aci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ffects vary from person to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rs can be dangerous to themselves and oth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st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llucinogenic drug that produces lower inhibitions, pleasant feelings, and greater acceptance of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so called MD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derate users may experience permanent brain dam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Marijua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6: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iju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ves, stems, resin, and flowers form the hemp plant that, when smoked, lower inhibitions and produce feelings of relaxation and mild euph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C (delta-9-tetrahydrocannabinol) is the active ingred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rupts memory; lung damage from sm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6: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uide to Selected Psychoactive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Blair-Broeker_tabl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gh School Drug 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Blair-Broeker_fig"/>
          <p:cNvPicPr/>
          <p:nvPr/>
        </p:nvPicPr>
        <p:blipFill>
          <a:blip r:embed="rId1"/>
          <a:stretch/>
        </p:blipFill>
        <p:spPr>
          <a:xfrm>
            <a:off x="304920" y="1374840"/>
            <a:ext cx="85341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ychoactive Dr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mical substance that alters perceptions, mood, or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common psychoactive drug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ffe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ico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uce an altered state of consciou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te of physiological, psychological or both types of need to take more of a drug after continued 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drawal follows if the drug is dis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draw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mfort and distress that follow when a person who is dependent on a drug discontinues the use of that d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drawal symptoms are usually the reverse of the drug’s effe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duced responsiveness to a drug, prompting the user to larger dosages to achieve the same pleasurable effects previously obtained by lower d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Blair-Broeker_fig"/>
          <p:cNvPicPr/>
          <p:nvPr/>
        </p:nvPicPr>
        <p:blipFill>
          <a:blip r:embed="rId1"/>
          <a:stretch/>
        </p:blipFill>
        <p:spPr>
          <a:xfrm>
            <a:off x="1371600" y="1219320"/>
            <a:ext cx="632448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lcohol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 Depressa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26: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ugs that reduce neural activity and slow body functi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ludes alcohol and sed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2:17:26Z</dcterms:created>
  <dc:creator>Home</dc:creator>
  <dc:description/>
  <dc:language>en-US</dc:language>
  <cp:lastModifiedBy>Meghan Reilly</cp:lastModifiedBy>
  <dcterms:modified xsi:type="dcterms:W3CDTF">2011-11-02T13:17:47Z</dcterms:modified>
  <cp:revision>60</cp:revision>
  <dc:subject/>
  <dc:title>Psychology</dc:title>
</cp:coreProperties>
</file>